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DCF4-5637-4A8C-B865-49F679667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0188-0A1D-4740-B86B-BF1327BE0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89CA-D2B0-4AB1-90E3-0A4A5F74B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1D92-A221-4F46-842B-23355AA81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17D7-2C4B-4246-805E-CA4A4D92C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DE92-A767-44A9-B780-AACAF46D7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2000-B7DF-403A-96AB-37EE747C3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722A-C384-442F-8814-51F90B034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5F50-1746-4E28-849A-5D5B088CA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05D5-ADAE-4155-81CF-0AE6DC8A4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6B73-7A3F-40E9-88A7-AD0CF6E0C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14BE-D127-4C5B-98F3-0DE226083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B854B-52D7-4374-922A-B5EED5440B5A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160 Moje srdce stále túž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oje srdce stále túži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o tebe môj Kráľ a Pán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chcem ti verne, ticho slúži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ko ty si slúžil n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pásu v tebe má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pásu v tebe má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 vďačnosti a z lásky, Pan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šetko tebe d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astierom keď ty si mojí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emusím sa nikdy bá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tále</a:t>
            </a:r>
            <a:r>
              <a:rPr b="1" lang="sk-SK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dieš</a:t>
            </a:r>
            <a:r>
              <a:rPr b="1" lang="sk-SK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ad</a:t>
            </a:r>
            <a:r>
              <a:rPr b="1" lang="sk-SK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tádom</a:t>
            </a:r>
            <a:r>
              <a:rPr b="1" lang="sk-SK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vojím</a:t>
            </a:r>
            <a:r>
              <a:rPr b="1" lang="sk-SK" sz="4400" spc="-1" strike="noStrike">
                <a:solidFill>
                  <a:srgbClr val="ffffff"/>
                </a:solidFill>
                <a:latin typeface="Arial"/>
              </a:rPr>
              <a:t>,</a:t>
            </a:r>
            <a:br>
              <a:rPr sz="44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iem, že chceš aj pri mne stá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pásu v tebe má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pásu v tebe má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 vďačnosti a z lásky, Pan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šetko tebe d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y si za mňa mrel na kríži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áchranu mám v tebe len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oraz viac sa preto blížiť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 tebe celým srdcom chce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pásu v tebe má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pásu v tebe má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 vďačnosti a z lásky, Pan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šetko tebe d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Chcem ti, drahý Spasiteľu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ivot celý zasväti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iem, že dovedieš ma k cieľu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áš mi večne s tebou ži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pásu v tebe má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pásu v tebe má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 vďačnosti a z lásky, Pan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šetko tebe dám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user</cp:lastModifiedBy>
  <dcterms:modified xsi:type="dcterms:W3CDTF">2025-10-04T07:49:39Z</dcterms:modified>
  <cp:revision>21</cp:revision>
  <dc:subject/>
  <dc:title>Je veľký náš Pán, on slávy je Kráľ Nech do všetkých strán  spev vrúcnych znie chvál.</dc:title>
</cp:coreProperties>
</file>